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21C-6899-4051-BD07-71974BBD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7C9-6723-4FD5-9E2B-CBEB6D81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2B2-27B8-4BDC-8490-D82805F8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79E-7041-4FB8-9A15-4E7BAA91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DB7-0CF6-4150-B284-9B0FC1A2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AE3-94F5-4B90-BEEA-90B16D2B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00D-E5BE-4C45-95C1-31B90508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8D2-AEBB-4361-B19F-8B0380F0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231-633D-48ED-B74B-EDCA0A21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6E6-3363-410B-9D2A-EB5D5EF7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BD0-3A80-4DC6-B9E1-C6925FF5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322-7E64-45BB-8576-FADAAC80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0E39-1BC0-49F9-B56F-210AE4A13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89000"/>
            <a:ext cx="691380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1 Decembrie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1628640"/>
            <a:ext cx="784872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iua na</a:t>
            </a:r>
            <a:r>
              <a:rPr b="1" i="1" lang="ro-RO" sz="3200" spc="-1" strike="noStrike">
                <a:solidFill>
                  <a:srgbClr val="000000"/>
                </a:solidFill>
                <a:latin typeface="Times New Roman"/>
              </a:rPr>
              <a:t>ţională a Români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5184720" cy="3808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6000" y="270828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Vă aşteptăm cu drag în Piaţa Constituţiei la ora 1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2:55:40Z</dcterms:created>
  <dc:creator> </dc:creator>
  <dc:description/>
  <dc:language>en-US</dc:language>
  <cp:lastModifiedBy> </cp:lastModifiedBy>
  <dcterms:modified xsi:type="dcterms:W3CDTF">2011-12-05T12:57:31Z</dcterms:modified>
  <cp:revision>2</cp:revision>
  <dc:subject/>
  <dc:title>Diapozitivul 1</dc:title>
</cp:coreProperties>
</file>